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DE5-F88E-4868-BF26-1F0FFA81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first 7 amino acids in the hemoglobin ß-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is normal (with glutamic acid), Right is sickle-cell anemia (with va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CEA-7A29-47CE-A87F-8A004DFD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573-8680-488C-AE2F-B6D6EBD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380-69AC-45E4-BFFA-1F8826C5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4C6-0898-4BC6-A5D2-9022393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9D4-49ED-4F97-B2C5-66E6553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B30-6AFF-41C7-8201-79D96DFA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7F4-96EE-4265-868D-2FE5BAE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D40-A139-4CF8-8BAE-4E7CB0F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2BA-39EE-4026-8B06-BEFCC84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B26-E3E9-41C4-BEBE-99BE802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A86-B3D8-4CD7-90AA-B6CB193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531-8FB2-4C10-BB3B-7BBC337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D82-3242-423A-A536-FE7A4A5D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chapter_quiz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next slide from: http://www.mun.ca/biology/scarr/Arginine_nutritional_muta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ypothesis is 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on Ingra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nas.org/site/misc/ingram.s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-American Biology professor (1924-2006) who studied sickle-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lackpast.org/?q=aah/sickle-cell-anem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blood cells contain abnormal hemoglobin, causing crescent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difficulty with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ssama.myweb.uga.ed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hemoglobin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difference between hemoglobin of normal RBCs and sickle cell anemia RB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 ß-chai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brary.thinkquest.org/17109/diseas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48080" y="1981080"/>
            <a:ext cx="40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chapter_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 who 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ease that caused urine to turn black due to accumulation of alkapton (homogentis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 who were fed extra phenylalanine (an amino acid) had increased blackness in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alkaptonuria must be caused by defectiv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he defective enzyme must be caused by an error in hereditar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alkapton-metabolizing enzyme part of a metabol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paper  (1941) with findings on relationship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zy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d bread moul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(i.e. it was able to synthesize all needed amino acids and vita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1-11-11T13:15:55Z</dcterms:modified>
  <cp:revision>87</cp:revision>
  <dc:subject/>
  <dc:title>Molecular Genetics</dc:title>
</cp:coreProperties>
</file>